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CEA0-6B7B-4C3F-B602-9DF61605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BD9-1F7A-4839-9D42-798111A9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354-D912-44A9-9251-2B47FEC0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62A-8EA6-4FE2-845B-E7CD732C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C064-6BF3-4935-B902-DAB3FB16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01D-CB62-4327-941B-955D27B6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2FD4-7AB0-4892-8B58-0FDA44936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A53-6756-43E8-A78B-DE6EB115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82DC-83F5-41E8-8B61-4698008DE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C380-6005-41CD-9DFD-0EEE917DB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B86-64B0-4E02-91A2-9EB67947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AA82-4895-4BA9-971C-BCF7533C6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3DF7-CBD9-44BC-82D5-8DC2D0B60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F2C7-1473-4BFE-9FA7-4B1109CF5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DE96-9FA1-43B0-A05B-543956DDD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D10F-F267-490C-A422-0B113987F6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9FC6-6063-4B08-B0B2-1AF1C0017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EC23-F0D5-4BAF-9B23-AB3BDCBC4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BB79-ECB3-40A1-A4FE-0DD92DA30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F0A7-C6EA-4E87-9F15-0F88E8D36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9CBC3-FD35-4EB8-B4DA-7C29F27F1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8ED5-663E-40CC-936B-D0776FECC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8A5F-CFA9-46FE-AE35-1153547F4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473EEACB-5668-401E-A5F6-28D51D9334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2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BFD6058E-B57E-4ABF-AB10-4E2F5218C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330800" y="4038480"/>
            <a:ext cx="466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—</a:t>
            </a: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Eh bien, elle peut descendre </a:t>
            </a:r>
            <a:r>
              <a:rPr b="1" i="1" lang="en-US" sz="2100" spc="-1" strike="noStrike">
                <a:solidFill>
                  <a:srgbClr val="231f20"/>
                </a:solidFill>
                <a:latin typeface="Times New Roman"/>
              </a:rPr>
              <a:t>discrètement </a:t>
            </a:r>
            <a:r>
              <a:rPr b="0" i="1" lang="en-US" sz="2100" spc="-1" strike="noStrike">
                <a:solidFill>
                  <a:srgbClr val="231f20"/>
                </a:solidFill>
                <a:latin typeface="Times New Roman"/>
              </a:rPr>
              <a:t>à la station suiva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2" descr="DAC3_Grammar-5"/>
          <p:cNvPicPr/>
          <p:nvPr/>
        </p:nvPicPr>
        <p:blipFill>
          <a:blip r:embed="rId1"/>
          <a:stretch/>
        </p:blipFill>
        <p:spPr>
          <a:xfrm>
            <a:off x="609480" y="1981080"/>
            <a:ext cx="3748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9D428864-82E4-4E34-87E0-5F6F7B4C2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assé composé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place short or common adverbs before the past participle. Place longer or less common adverbs after the past parti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3048120"/>
          <a:ext cx="7772400" cy="2651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5969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Nous sommes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déjà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rrivés à </a:t>
                      </a:r>
                      <a:br>
                        <a:rPr sz="2100"/>
                      </a:b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la ga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We already arrived at the train stati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Vous avez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vraiment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ompris ses indications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Did you really understand his directions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l a conduit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rudem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He drove prudently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u t’es levée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régulièremen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à six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You got up regularly at six o’cloc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00CDE630-5BC2-4DA5-95DD-B0423812D8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negative sentences, the adverb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eut-être, sans doute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robable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usually preced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894040"/>
          <a:ext cx="7391520" cy="1371600"/>
        </p:xfrm>
        <a:graphic>
          <a:graphicData uri="http://schemas.openxmlformats.org/drawingml/2006/table">
            <a:tbl>
              <a:tblPr/>
              <a:tblGrid>
                <a:gridCol w="3048120"/>
                <a:gridCol w="762120"/>
                <a:gridCol w="3581280"/>
              </a:tblGrid>
              <a:tr h="13741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n’est pas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ouven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hez e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is not often at ho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n’a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eut-être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as lu ton e-m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probably has not read your e-m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DCE2C765-F514-4C90-BC26-FF98813CA3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dverbs of time and place typically follow the past partici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2743200"/>
          <a:ext cx="8076960" cy="731880"/>
        </p:xfrm>
        <a:graphic>
          <a:graphicData uri="http://schemas.openxmlformats.org/drawingml/2006/table">
            <a:tbl>
              <a:tblPr/>
              <a:tblGrid>
                <a:gridCol w="3962160"/>
                <a:gridCol w="4114800"/>
              </a:tblGrid>
              <a:tr h="73404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Elle a commencé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ô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es devoi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She started her homework ear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Nous ne sommes pas descendus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c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We did not get off he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FFF3CABD-EA8B-41D5-8B48-E246E52F2C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expressions, an adjective functions as an adverb. Therefore, it is in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304920" y="2743200"/>
            <a:ext cx="8610480" cy="182880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2743200"/>
          <a:ext cx="8534520" cy="1828800"/>
        </p:xfrm>
        <a:graphic>
          <a:graphicData uri="http://schemas.openxmlformats.org/drawingml/2006/table">
            <a:tbl>
              <a:tblPr/>
              <a:tblGrid>
                <a:gridCol w="4888080"/>
                <a:gridCol w="3646440"/>
              </a:tblGrid>
              <a:tr h="182880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ûter cher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cost a lot</a:t>
                      </a:r>
                      <a:br>
                        <a:rPr sz="2100"/>
                      </a:b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rler bas/fort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speak softly/lou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entir bon/mauvais 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smell good/b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13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ravailler dur  </a:t>
                      </a: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o work har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1C4C9821-1985-4649-8C4D-525500BA3C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59e"/>
                </a:solidFill>
                <a:latin typeface="Arial"/>
              </a:rPr>
              <a:t>Formation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form an adverb from an adjective whose masculine singular form ends in a consonant, add the en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to the adjective’s feminine singular form. If the masculine singular ends in a vowel, simply add the en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to tha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2"/>
          <p:cNvSpPr/>
          <p:nvPr/>
        </p:nvSpPr>
        <p:spPr>
          <a:xfrm>
            <a:off x="2133720" y="4191120"/>
            <a:ext cx="4876560" cy="198108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09680" y="4191120"/>
          <a:ext cx="4800600" cy="1981080"/>
        </p:xfrm>
        <a:graphic>
          <a:graphicData uri="http://schemas.openxmlformats.org/drawingml/2006/table">
            <a:tbl>
              <a:tblPr/>
              <a:tblGrid>
                <a:gridCol w="1447920"/>
                <a:gridCol w="3352680"/>
              </a:tblGrid>
              <a:tr h="198216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o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bsolut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ouc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gen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ch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 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fran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elle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 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atur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</a:t>
                      </a:r>
                      <a:r>
                        <a:rPr b="1" lang="en-US" sz="20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ment</a:t>
                      </a:r>
                      <a:r>
                        <a:rPr b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olit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B1F8F3F8-04B5-4E1E-B9D1-C7F3ECB5BA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form an adverb from an adjective whose masculine singular form ends in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replace the ending </a:t>
            </a:r>
            <a:br>
              <a:rPr sz="2400"/>
            </a:b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with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m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m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4"/>
          <p:cNvSpPr/>
          <p:nvPr/>
        </p:nvSpPr>
        <p:spPr>
          <a:xfrm>
            <a:off x="1981080" y="3124080"/>
            <a:ext cx="5181840" cy="175284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81080" y="3133800"/>
          <a:ext cx="5181840" cy="1736640"/>
        </p:xfrm>
        <a:graphic>
          <a:graphicData uri="http://schemas.openxmlformats.org/drawingml/2006/table">
            <a:tbl>
              <a:tblPr/>
              <a:tblGrid>
                <a:gridCol w="1676520"/>
                <a:gridCol w="3505320"/>
              </a:tblGrid>
              <a:tr h="173772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bruya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a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vid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e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bruy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oisi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stant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vid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obvious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m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atient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8256412C-A51F-47B0-A3E5-8EC1906AC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 exception to this rule is the adjectiv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ent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whose corresponding adverb i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entement.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Remember that the endings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am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mment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 are pronounced iden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B31300D1-AFBC-4837-B985-9B0EC212B0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 limited number of adverbs are formed by adding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é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to the masculine singular form of the adjective. If this form ends in a silent final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-e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, drop it before adding the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0"/>
          <p:cNvSpPr/>
          <p:nvPr/>
        </p:nvSpPr>
        <p:spPr>
          <a:xfrm>
            <a:off x="1905120" y="3114720"/>
            <a:ext cx="5410080" cy="1752480"/>
          </a:xfrm>
          <a:prstGeom prst="roundRect">
            <a:avLst>
              <a:gd name="adj" fmla="val 8639"/>
            </a:avLst>
          </a:prstGeom>
          <a:noFill/>
          <a:ln w="28440">
            <a:solidFill>
              <a:srgbClr val="507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5120" y="3124080"/>
          <a:ext cx="5333760" cy="1737000"/>
        </p:xfrm>
        <a:graphic>
          <a:graphicData uri="http://schemas.openxmlformats.org/drawingml/2006/table">
            <a:tbl>
              <a:tblPr/>
              <a:tblGrid>
                <a:gridCol w="1676160"/>
                <a:gridCol w="3657600"/>
              </a:tblGrid>
              <a:tr h="1737720"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nor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éc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>
                      <a:noFill/>
                    </a:lnL>
                    <a:lnR w="13680">
                      <a:solidFill>
                        <a:srgbClr val="507bb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137160" tIns="228600" bIns="2286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confuse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énorm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normous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écis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ecise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nd</a:t>
                      </a:r>
                      <a:r>
                        <a:rPr b="1" lang="fr-FR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ément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  </a:t>
                      </a: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rofoundl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137160">
                    <a:lnL w="13680">
                      <a:solidFill>
                        <a:srgbClr val="507bb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71B44F0C-70AF-4DCF-9768-F07A382A45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 few adverbs, like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ien, gentiment, mal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ieux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are entirely irregular. The irregular adverb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rièvement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briefly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) is derived from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bref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brève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085C6196-AD0A-485B-8659-3BC87E4E99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559e"/>
                </a:solidFill>
                <a:latin typeface="Arial"/>
              </a:rPr>
              <a:t>Categories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31f20"/>
                </a:solidFill>
                <a:latin typeface="Arial"/>
              </a:rPr>
              <a:t>Most common adverbs can be grouped by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2666880"/>
          <a:ext cx="7696080" cy="3475080"/>
        </p:xfrm>
        <a:graphic>
          <a:graphicData uri="http://schemas.openxmlformats.org/drawingml/2006/table">
            <a:tbl>
              <a:tblPr/>
              <a:tblGrid>
                <a:gridCol w="1333440"/>
                <a:gridCol w="6362640"/>
              </a:tblGrid>
              <a:tr h="96156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lors, aujourd’hui, bientôt, d’abord, de temps en temps, déjà, demain, encore, enfin, ensuite, hier, jamais, maintenant, parfois, quelquefois, rarement, souvent, tard, tôt, touj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ma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insi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thus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bien, donc, en général, lentement, mal, soudain, surtout, très, 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heureusement, malheureusement, peut-être, probablement, sans do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dedans, dehors, ici, là, là-bas, nulle part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no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part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every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, quelque part (</a:t>
                      </a:r>
                      <a:r>
                        <a:rPr b="0" i="1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somewhere</a:t>
                      </a: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9144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231f20"/>
                          </a:solidFill>
                          <a:latin typeface="Arial"/>
                        </a:rPr>
                        <a:t>assez, autant, beaucoup, peu, t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F4994012-EE4A-45A2-85A6-F68B0AA312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59e"/>
                </a:solidFill>
                <a:latin typeface="Arial"/>
              </a:rPr>
              <a:t>Position of 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In the case of a simple tense (present indicative, </a:t>
            </a: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imparfait,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future, etc.), an adverb immediately follows the verb it modif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90560" y="3505320"/>
          <a:ext cx="7896240" cy="1050840"/>
        </p:xfrm>
        <a:graphic>
          <a:graphicData uri="http://schemas.openxmlformats.org/drawingml/2006/table">
            <a:tbl>
              <a:tblPr/>
              <a:tblGrid>
                <a:gridCol w="4172040"/>
                <a:gridCol w="3724200"/>
              </a:tblGrid>
              <a:tr h="10540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Gérard s’arrête </a:t>
                      </a:r>
                      <a:r>
                        <a:rPr b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toujours </a:t>
                      </a: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u </a:t>
                      </a:r>
                      <a:br>
                        <a:rPr sz="2100"/>
                      </a:br>
                      <a:r>
                        <a:rPr b="0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centre-v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Gérard always stops downtow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Il attend </a:t>
                      </a:r>
                      <a:r>
                        <a:rPr b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patiemment </a:t>
                      </a:r>
                      <a:r>
                        <a:rPr b="0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au feu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231f20"/>
                          </a:solidFill>
                          <a:latin typeface="Times New Roman"/>
                        </a:rPr>
                        <a:t>He waits patiently at the traffic l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3-</a:t>
            </a:r>
            <a:fld id="{8BE00C55-2202-4824-8E48-A2BAA6BE7B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31f20"/>
                </a:solidFill>
                <a:latin typeface="Arial"/>
              </a:rPr>
              <a:t>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3960" y="1571760"/>
          <a:ext cx="7696080" cy="22381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18129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adverbs sometimes immediately follow the subject. In French, this i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l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kes me u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 sœur me réveille constamm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4-09-29T21:53:02Z</dcterms:modified>
  <cp:revision>152</cp:revision>
  <dc:subject>D'accord! 3 • Leçon 2: Habiter en ville</dc:subject>
  <dc:title>2.3 Adverbs</dc:title>
</cp:coreProperties>
</file>